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D1F-7FCB-4E31-B56F-6182EA69E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0AF-FDC0-46CB-9ED0-E937AFAA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F606-1AD4-4079-AF02-E27A08004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F3F-F3AC-4079-A8EB-D67A73C1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6FE3-1BFE-4638-A069-0745B9182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319-1C4A-4268-8A4C-2612E944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FF94-C927-4BF3-89CB-F392373D0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14C4-792C-48A8-A569-9F89ACDB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A6AC-0E06-4F1B-9A4E-1B44FDF36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1103-9AA9-465D-80F7-CFC0B9845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0DAE-3AA3-4348-8983-3B9EC8889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DE96-607B-4B6D-ACAA-A9C65C0DC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EE1D-B132-418E-9599-43AAB0114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7CCF-872B-40AA-AC83-9D7AFA087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D75B-B67F-4D9E-9768-775E95E70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3C17-3B83-47E9-B6A4-FADA0C22E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8312-611E-4A37-879B-EF02E1E88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B9B1-FE47-4C7B-967B-6385706FE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0480-D0CF-4F9D-A114-E1EBD57EBE0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Other Transactions Using a General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3C6-61EB-4AEF-A95F-1DD35EE3314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ANDUM FOR BUYING SUPPLI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27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19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523880" y="44672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cause invoices for purchases and supplies are similar, we prepare a memorandum to eliminate the conf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DA1-DBAF-453A-ACF2-8773AFFA4FA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SUPPLI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C:\Documents and Settings\mcm08@fuse.net\My Documents\2005 Business Projects\Slides for Century 21 Accounting\Blue\ch09\C21_blue_0928.jpg"/>
          <p:cNvPicPr/>
          <p:nvPr/>
        </p:nvPicPr>
        <p:blipFill>
          <a:blip r:embed="rId1"/>
          <a:srcRect l="0" t="0" r="0" b="41163"/>
          <a:stretch/>
        </p:blipFill>
        <p:spPr>
          <a:xfrm>
            <a:off x="304920" y="2362320"/>
            <a:ext cx="853416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914400" y="3809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676520" y="3048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36572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934320" y="3048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733920" y="4137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791320" y="39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6. Bought store supplies on account from Gulf Craft Supply, $210.00. Memorandum No. 5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304920" y="4343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572000" y="4343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304920" y="47037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4572000" y="5013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304920" y="507996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4572000" y="56894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304920" y="57466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807732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370-127D-46EF-A2EF-95D5FECAECA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BIT MEMORAND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RCHAS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C:\Documents and Settings\mcm08@fuse.net\My Documents\2005 Business Projects\Slides for Century 21 Accounting\Blue\ch09\C21_blue_0930.jpg"/>
          <p:cNvPicPr/>
          <p:nvPr/>
        </p:nvPicPr>
        <p:blipFill>
          <a:blip r:embed="rId1"/>
          <a:stretch/>
        </p:blipFill>
        <p:spPr>
          <a:xfrm>
            <a:off x="1143000" y="1752480"/>
            <a:ext cx="6856560" cy="4125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8198-6A0B-4DB2-A59B-AC5925F839F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4038480" y="4572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debit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:\Documents and Settings\mcm08@fuse.net\My Documents\2005 Business Projects\Slides for Century 21 Accounting\Blue\ch09\C21_blue_0931.jpg"/>
          <p:cNvPicPr/>
          <p:nvPr/>
        </p:nvPicPr>
        <p:blipFill>
          <a:blip r:embed="rId1"/>
          <a:srcRect l="893" t="0" r="0" b="19365"/>
          <a:stretch/>
        </p:blipFill>
        <p:spPr>
          <a:xfrm>
            <a:off x="304920" y="228600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304920" y="1495440"/>
            <a:ext cx="8534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8. Returned merchandise to Crown Distributing, $252.00, covering Purchase Invoice No. 80. Debit Memorandum No. 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094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5238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5638680" y="3505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78152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816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2819520" y="4008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304920" y="4572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038480" y="4933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04920" y="493704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038480" y="53085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rchases Returns and Al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04920" y="561024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4038480" y="568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7772400" y="4008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537-DA69-4A9F-AC38-E60B83D69FE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1T16:34:25Z</dcterms:modified>
  <cp:revision>22</cp:revision>
  <dc:subject/>
  <dc:title>Lesson 9-1</dc:title>
</cp:coreProperties>
</file>